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773-5552-4C3F-B30C-CD06113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D55-9F49-4456-BD47-A277403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307-F5D5-4964-AC63-4C2A554E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A2A-29BF-481B-B7D7-966A07BF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B9E-710C-453F-B0E5-AA31AACB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B5C-B885-46F7-A062-53027CF8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0AA-30DB-494A-AD8C-6CAE6112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BA1-5406-4BD8-8C5F-F09E39A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4E5-F8F6-4C07-853B-5D1721E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DE4-05BB-4925-8DB6-7943354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0C-E99A-4884-AEFB-25A7698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1EB-65DC-45AE-B70F-9613DB3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357-90B2-439C-8BA5-6BACBAE2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SPI 0606.3.3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I can Construct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Occup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eneral Contracto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Keep workers foc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urn In fina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ject Manag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cord problems/Solutions/En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uppl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Gather and return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. Problem Solve – Evaluate situation and determine what is missing (measure each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Construct addition equation for missing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. Visit supply yard (must bring eq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. Build bridge using t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General Contractor -turn in bridge for insp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. Project Manager- turn in Problem Solving Sheet for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.Supply Manager – Gather and return supp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rder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ingl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Homework on Halloween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f cours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We are not scared of homewor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onstruct an Hallowee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07:42Z</dcterms:created>
  <dc:creator>Chelle Daniels</dc:creator>
  <dc:description/>
  <dc:language>en-US</dc:language>
  <cp:lastModifiedBy>Chelle Daniels</cp:lastModifiedBy>
  <dcterms:modified xsi:type="dcterms:W3CDTF">2011-10-31T19:05:29Z</dcterms:modified>
  <cp:revision>4</cp:revision>
  <dc:subject/>
  <dc:title>Slide 1</dc:title>
</cp:coreProperties>
</file>